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41F-024C-4F7B-87AB-A0B39D54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763-17C1-4087-B3AC-588D61C8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EB4-A41D-442F-932C-3C92AA84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D56-FD24-454D-9F7B-166F06A4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DBFB-AC5D-4C17-B3D7-4D7D78D1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73EB-F391-4452-8192-C7D42779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9D12-BF75-4647-8234-4A09728C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0889-AEF8-4EDA-948C-CF4713E0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67F8-91D0-45F2-823D-F491E9C4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2B50-5DF0-4999-88A5-E54D4C58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60C8-E909-459F-A237-688B6DE0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6EE-2EC9-44E7-9668-043A077B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303-E036-443E-9BC2-9DEA628A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2ABE-885F-4487-BD78-3AE3168B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37AD-5082-402D-BF40-D50FD72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C640-0A87-4471-ACFF-0F70F0F3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79C6-2E0A-4006-B16B-D530E905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D4310-6CD9-472E-A43B-DD9C9D56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013B1-46BD-454F-83EF-401CE375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3355C-CBE4-4536-8FBF-9D30531C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AF055-9A12-46FC-A202-410C28F9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39C4C-275B-4CBD-938C-78AA330C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017-1091-466A-AFCC-B7EC8BEA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4EA8C-AE6B-4EAA-91FC-592E0A71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43BD4-1765-4BF7-AC35-DA9C92AA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3C914-4EBB-4578-BFDB-BB97414F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D9D58-DE7E-4569-8604-38EABDBD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B1669-63A2-40F6-90A8-42DF5DE8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A282A-64C0-44E1-9605-5AB88AC4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BBA20-455C-48F8-AF07-01A4E217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1838B-C78F-4041-B496-DBFD788F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CAE5-8354-4D91-BD2B-D73AD13C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3703-99D0-476E-8D26-CDA64669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074-C846-40AF-8D50-FF2277EF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1C22-7AC6-4C06-884A-7FED6591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2623-C84B-4633-A318-908D43DF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18E6-3E28-45BD-8613-E0C192E3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DC6C-D02E-4551-9AF1-56DA4CC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DDAF-D759-45E7-98FA-BCBE3839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2C13E-BA83-497B-B479-9A15D62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AC15-4334-41E8-B00A-EED51AA6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4AF84-9973-4B5F-A139-3B3924A2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8684-F948-4C77-BE9E-9D502587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20EFB-C0D9-40FE-87B3-8C010CB0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7C0-E8E6-40D3-9032-2F61BD8A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31460-EC14-4D3E-A0D1-5C2E8765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ED836-2D5B-4234-A879-2B8072E4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9AAA2-DA7F-4D06-9E79-40BF74FA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53D41-D919-4930-82BA-0E4F229A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1D6BB-6FF0-466A-A904-6B0593D0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3855E-338C-4AAD-8869-F41CDC2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4F95E-F182-4098-8A80-F3503447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29759-A751-4618-9905-2510875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12DA0-10F2-4E09-B741-66C510E2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54066-FF97-459B-A8CC-0FF61B3D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F00-A7B1-4B1F-9EBC-F75DC1B6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9A83E-2F0F-41AF-AA3E-0EB3365C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9D08B-5C9D-4695-8C80-94AA6C56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DA7D3-EBF9-4141-8AA8-2CA0E3C9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CE4FC-88B5-4CDA-927E-2635919C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28FC8-FE98-4177-9EFF-41112BB1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7BA1D-44BC-4F46-91B8-9F15F023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9A397-5EBC-463E-83C1-07415321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B0AA8-E1A3-4ABD-8CD5-4C72869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AFE3A-5D59-41C1-BF98-DC3BE0A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6942A-D03A-4B75-A214-4BFD55D1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877-B840-448A-807D-9B245D4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AC3F8-42B8-4017-A0FE-C5FC095B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B0896-3394-4E96-9D04-38425EF5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92414-E076-45CB-93FB-178AAFD1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4FFD9-9F5D-4C3A-9550-7327535F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19AC5-5D8B-4ECB-AB9C-6BF9D58F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8A791-1863-4215-A9A8-EB8CC2D8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F12B2-1491-43D4-ACEA-4F8F05B5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34CE3-0A70-4C2F-99DF-06C037A6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CA661-B1AE-4917-88B4-167A7991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B6C7C-4C1B-4CDF-BB60-718735D1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F08-65E8-41A3-BC60-B0CE113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5C88E1-369E-4298-8250-4BB8CFA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522E9-925A-40AA-AFAA-61A9928B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28683C-A7B3-4F82-A814-4F7D5BB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0E066-A816-467F-BE8B-C01ADADF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D54DE-B1D7-4EDC-AEA2-42B8584F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E9D-75E4-413D-98AD-6F8BE24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B044C-A86B-4E01-B02A-28CC04333675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78435-449F-49F5-8D48-BE7425F51A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EF897-B927-4645-A6DD-185CA7B62BF4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FDDF7-D6A3-428E-8840-A2B36BDD6C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FB243-9B90-41E8-BF4D-2CBBCCEE5BA1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2FB98-7D66-4839-8C01-D843824B1F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35A0F-8FA2-464A-9B26-1B295835E8A5}" type="datetime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3FF67-5E34-4728-B9C8-9E320DA183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8B45D-3F2E-48D0-A163-A4BCA1B7096D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2AA23-E983-4041-86B9-A0EA0EB3E5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A2775-538F-40E7-944E-2FA94AD0B419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DD1C6-852C-4AD5-A538-6B8E7768CA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A55E1-21E0-429C-98F4-65C3975BE3AC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F0B85-049B-4C9B-99CA-F11D9051ED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AST CHANCE AP BIOLOGY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HYPO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educated gu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THEOR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explanation supported by an abundance of facts and evide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SEXUAL REPRODUC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production with one organ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d by bacte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dding or fis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fspring are identical to par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EXUAL REPRODUC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production between two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gg and spe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fspring are different from par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N ABIOTIC FACT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 living component of an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ter, wind, temperature, soil, rock, gas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BIOTIC FACT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ving thing in an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ts, animals, bacte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AUTOTROPH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f feed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 energy from the sun, like pla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HETEROTROPH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ganisms that have to eat to get food, like anima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CARNIVOR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t ea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ons, tig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HERBIVOR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t ea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SOME TIPS FOR THE MC QUESTION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swer EVERY ques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liminates wrong answers fi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ke educated guesses when nece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know NOTHING and can’t eliminate even 1, choose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OMNIVOR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t both plants and m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PHOTOSYN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ocess by which plants turn sunlight into A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EQUATION FOR PHOTOSYN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xygen + gluc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2 + H2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2 + C6H12O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2 STAGES OF PHOTOSYN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 reactions (make oxyge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lvin Cycle (Dark Reactions-make glucos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HAPPENS TO ENERGY GOING UP A TROPHIC LEV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ly 10% goes u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other 90% is lost to the environment as h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FOOD CHAI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low of energy through organisms in an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FOOD WEB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food chains togeth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KEYSTONE SPECI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 that affects all the oth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ually a pla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UCCESS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organisms grow back after a catastrophe destroys an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plants, like mosses, lichens, and grass, grow back fi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LIMITING FACT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thing that limits the size of a pop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eps it from growing exponential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SOME TIPS FOR THE FRQ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bel all s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llow dir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swer the ques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vocab and define 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 neatly and clear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bel all graphs (title, axis, UNITS et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BUILDING BLOCKS OF MATT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ND WHERE IS A PROT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ly charged sub atomic parti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the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AND WHAT IS AN ELECTR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gatively charged subatomic parti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shells around the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ND WHERE IS THE NEUTR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tral subatomic parti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the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YOU KNOW HOW MANY PROTONS ARE IN AN ATO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e as atomic numb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YOU KNOW HOW MANY ELECTRONS ARE IN AN ATO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e as the atomic numb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YOU KNOW HOW MANY NEUTRONS ARE IN AN ATO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omic mass minus atomic numb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MANY ELECTRONS ARE IN EACH SHEL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in the fi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 in the seco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KIND OF BONDS ARE BETWEEN WATER MOLECUL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drogen bon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 HYDROGEN BONDS CAUSE BETWEEN WATER MOLECUL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face 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ECOLOG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tudy of the interactions of organisms and their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POLA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ving a negative end and a positive 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xygen is negative, hydrogen is pos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SOME OTHER PROPERTIES OF WAT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be solid, liquid, or g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ce is less dense than wa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gulates body temper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3 POLYSACCHARID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r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BUILDING BLOCKS OF POLYSACCHARIDES (CARBS)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uct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N ENZYM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eds up chemical reactions by lowering activation ener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ataly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pro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ds in -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BUILDING BLOCKS OF NUCLEIC ACID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cleotid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, T, C and 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THINGS ARE MADE OF PROTEI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i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3 THINGS DO ONLY PLANT CELLS HAV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 wa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cuo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PROKARYOT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 without a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HYPERTONIC? HYPOTONIC? ISOTONIC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lution has more solute than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lution has less solute than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lution has the same amount of solute as the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BIOLOG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y study of lif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PLASMOLY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 shrink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cause water lea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CYTOLY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 swell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ue to water entering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OSMO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diffusion of wa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F A CELL HAS 26 CHROMOSOMES, HOW MANY DOES IT HAVE AFTER MITO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F A CELL HAS 26 CHROMOSOMES, HOW MANY DOES IT HAVE AFTER MEIO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AND DESCRIBE THE STAGES OF MITOSIS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phase-chromosomes conden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phase-chromosomes line up in the midd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phase-chromosomes begin to separ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lophase-nuclei separ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ytokinesis-cytoplasm separates into 2 new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FERMENTA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ular respiration when there is no oxy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erob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ss ATP is produc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N DOES CROSSING OVER OCCU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phase I of mei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s genetic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HETEROZYGOU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 dominant allele, one recess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enotype is dominant tra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GENOTYPE? PHENOTYP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notype=ge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enotype=physical characterist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STEPS OF THE SCIENTIFIC METHO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po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DIHYBRID CROSS WITH 2 HETEROZYGOUS ORGANISMS GIVE WHAT RATIO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9:3:3: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REPLICA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DNA makes a copy of itsel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RANSCRIPTION? TRANSLA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cription is DNA to R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lation is RNA to pro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3 DIFFERENCES BETWEEN DNA AND RNA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NA is double stran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NA has deoxyrib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NA has T and RNA has 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NUCLEOTIDE BASES AND THEIR MATCH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-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-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SEX CHROMOSOME DOES A FATHER GIVE TO A DAUGHT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SOME SEX LINKED DISEA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r blind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ld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mophil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KARYOTYP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cture of all 23 pairs of chromos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SOME TYPES OF FOSSIL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l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rbon fil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ce, amber, t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WERE THE FIRST PRIMAT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simia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murs, lori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CONTROL GROU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group in which nothing is changed or manipul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DO OLD WORLD MONKEYS LIVE? TAILS OR NO TAIL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frica and/or As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ai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O DISCOVERED LUCY? WHAT DID WE LEARN FROM H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y Leake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minids evolved bipedalism early in their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ORGANIC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something has carb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CAN CARBON BOND WITH SO MANY OTHER THING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 electrons in the outer shell, can make 4 bon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N ISOM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an atom has a different number of neutr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CATABOLIC/ANABOLIC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tabolic: breaking molecules, releasing energy, exergonic,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bolic: building molecules, needs energy, endergonic, photo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MAKES UP OUR CELL MEMBRAN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ospholipids (bilayer, polar heads face out hydrophilic; non-polar hydrophobic tails face i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A RIBOSOME DO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ke pro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A LYSOSOME DO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gest thing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A VACUOLE DO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ld wa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N INDEPENDENT VARIABL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ariable being changed by the experiment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SEMI PERMEABLE MEA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things can go through and some can’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ND WHERE AND WHAT COMES OUT OF EACH STEP OF CELL RES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ATP, 2 NADH, 2 pyruvic aci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reb’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rix of mitochond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ATP, 6 NADH, 2 FADH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istae of mitochond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ter, 34 ATP through oxidative phosphory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ND WHERE AND WHAT COMES OUT OF THE 2 STEPS OF PHOTOSYN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 dependent rea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ylakoid Membrane of chloropla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xygen, ATP, NAD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rk, Calvin, Light independent rea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oma (fluid in chloropla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ucose, ADP, and NA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OPENINGS IN LEAVES FOR CO2 AND WATER CALLE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om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FLUID IN A CHLOROPLAST CALLE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5 KINGDOMS OF LIF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ls (multi celled eukaryotes, heterotroph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ts (multi celled eukaryotes, autotroph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gi (multi celled eukaryotes, heterotroph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tista (single celled eukaryot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era (prokaryot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WHICH 2 ANIMAL PHYLA HAVE DEUTEROSTOMES AND WHAT DOES IT MEAN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rd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chinoder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ns anus forms first as fet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COELOM AND WHO HAS THE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dy ca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llusks and higher on the evolutionary tre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MAIN UNIT IN THE KIDNE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phr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THE ENDOCRINE SYSTEM MAKE AND WHER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kes horm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glan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DEPENDENT VARIABL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hing that changes or is being measur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ENDOSYMBIOTIC THEOR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tochondria and chloroplasts were free li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n were absorbed by prokaryo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then evolved into eukaryotes (like 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know because mitochondria and chloroplasts have D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7:56:17Z</dcterms:created>
  <dc:creator>Becky</dc:creator>
  <dc:description/>
  <dc:language>en-US</dc:language>
  <cp:lastModifiedBy>Becky</cp:lastModifiedBy>
  <dcterms:modified xsi:type="dcterms:W3CDTF">2011-05-04T18:12:13Z</dcterms:modified>
  <cp:revision>16</cp:revision>
  <dc:subject/>
  <dc:title>Final Exam </dc:title>
</cp:coreProperties>
</file>